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6F3-D239-4ABF-993D-7D328832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CDD-06F6-4B6E-AD26-4B91A778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070-4899-4A0A-B170-ED6C2F34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7A3-007C-4621-B84B-47D34A85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400-D025-4145-8FA7-C6CC8B5C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DA3-B50E-4D41-A0C0-2D5B3585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16F-DE6F-400E-B86B-E27FB091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8E8-A6B5-484B-BBB1-1E2A257D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B2C-77D3-4EE1-A182-6200922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97F-38E1-475B-B42B-A997281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986-7485-4680-B1B5-800F3B2C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7E6-5AED-4E81-982F-524281B1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C5D0-C330-44E5-BE0A-D063EC583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ques &amp; procedures for manipulating and transmitting files used in a virtual team enviro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&amp; Transmit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scrambl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receiver needs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division of web server into hierarchies, eg. main, secure and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site, uses https, and connects to port 4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&amp; Transmit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 detec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as often as updat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, backup al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l used with full b/up &amp; work with only 2 sets of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backup, used with full b/up but uses &gt; 2 sets of backup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strategy, daily, weekly and mon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&amp; Transmit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-naming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name, type of file, date, revision no. of document, department name, creators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sequential file-na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&amp; Transmit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ers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ith virtual teams need this control otherwise accidentally deleting or changing may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sequential file-naming strategy to clearly identify most recent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Dreamweaver, Check In/Check Out function; file is “checked out” by editor &amp; cannot be altered by anyone else until it is “checked” in after 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3:45:16Z</dcterms:created>
  <dc:creator>T01421606</dc:creator>
  <dc:description/>
  <dc:language>en-US</dc:language>
  <cp:lastModifiedBy>Kelvin Baird</cp:lastModifiedBy>
  <dcterms:modified xsi:type="dcterms:W3CDTF">2007-04-10T01:26:49Z</dcterms:modified>
  <cp:revision>8</cp:revision>
  <dc:subject/>
  <dc:title>Components of Computer System:  </dc:title>
</cp:coreProperties>
</file>